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DDB-2B01-4204-8D62-A9849CE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4F8-F6B7-4045-91BC-D6FE9F40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3A3-BDC1-48D0-A615-4BA40B6B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08E-81DF-45BA-80D2-C215D84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C63-013F-498F-AF61-DDC576A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F8C-0FF3-45AF-890E-83F07F09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9A3-D252-49E9-80BF-F833C693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1FC-2BFD-4526-BB25-561254E1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1BE-F2A6-4D97-B70A-381C444B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998-DFF0-41B0-9373-036A9B9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850-14EE-4A5A-8360-B3DF860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81D-A7FA-4909-A784-BEDEE8A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f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df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f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d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7E0-AC00-4089-9559-FFBEED5484DB}" type="slidenum">
              <a:rPr b="0" lang="en-US" sz="1400" spc="-1" strike="noStrike">
                <a:solidFill>
                  <a:srgbClr val="fffd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f9"/>
                </a:solidFill>
                <a:latin typeface="Comic Sans MS"/>
              </a:rPr>
              <a:t>Graphs, Charts &amp; Tables</a:t>
            </a:r>
            <a:endParaRPr b="0" lang="en-US" sz="48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8179c"/>
                </a:solidFill>
                <a:latin typeface="Comic Sans MS"/>
              </a:rPr>
              <a:t>Constructing Stem-and-leaf Diagrams</a:t>
            </a:r>
            <a:endParaRPr b="0" lang="en-US" sz="36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44792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df9"/>
                </a:solidFill>
                <a:latin typeface="Comic Sans MS"/>
              </a:rPr>
              <a:t>The aim of this lesson is to be able to make up a stem-and-leaf diagram from a list of numbers</a:t>
            </a:r>
            <a:endParaRPr b="0" lang="en-US" sz="4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The following is a list of computer speeds (in kilobytes/second) of 12 different computer models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4382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25ff"/>
                </a:solidFill>
                <a:latin typeface="Comic Sans MS"/>
              </a:rPr>
              <a:t>24, 43, 16, 12, 33, 19, 24, 30, 28, 25, 18, 4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71800" y="3124080"/>
            <a:ext cx="457200" cy="1923120"/>
            <a:chOff x="2971800" y="3124080"/>
            <a:chExt cx="457200" cy="1923120"/>
          </a:xfrm>
        </p:grpSpPr>
        <p:sp>
          <p:nvSpPr>
            <p:cNvPr id="47" name=""/>
            <p:cNvSpPr/>
            <p:nvPr/>
          </p:nvSpPr>
          <p:spPr>
            <a:xfrm>
              <a:off x="2971800" y="312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1800" y="3657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4114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4648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df9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505320" y="3124080"/>
            <a:ext cx="0" cy="198144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9810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895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2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895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4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895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df9"/>
                </a:solidFill>
                <a:latin typeface="Comic Sans MS"/>
              </a:rPr>
              <a:t>1|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124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0574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14800" y="2057400"/>
            <a:ext cx="2286000" cy="457200"/>
            <a:chOff x="4114800" y="2057400"/>
            <a:chExt cx="2286000" cy="457200"/>
          </a:xfrm>
        </p:grpSpPr>
        <p:sp>
          <p:nvSpPr>
            <p:cNvPr id="68" name=""/>
            <p:cNvSpPr/>
            <p:nvPr/>
          </p:nvSpPr>
          <p:spPr>
            <a:xfrm>
              <a:off x="41148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0552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2133720"/>
              <a:ext cx="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0574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6252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65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638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Now we put each row into numerical order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7925040" cy="0"/>
          </a:xfrm>
          <a:prstGeom prst="line">
            <a:avLst/>
          </a:prstGeom>
          <a:ln w="25560">
            <a:solidFill>
              <a:srgbClr val="00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16000" y="121932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Make up a stem-and-leaf diagram from this list.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609480"/>
            <a:ext cx="457200" cy="1983960"/>
            <a:chOff x="1066680" y="609480"/>
            <a:chExt cx="457200" cy="1983960"/>
          </a:xfrm>
        </p:grpSpPr>
        <p:sp>
          <p:nvSpPr>
            <p:cNvPr id="84" name=""/>
            <p:cNvSpPr/>
            <p:nvPr/>
          </p:nvSpPr>
          <p:spPr>
            <a:xfrm>
              <a:off x="106668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668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66680" y="1600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533520"/>
            <a:ext cx="0" cy="1981080"/>
          </a:xfrm>
          <a:prstGeom prst="line">
            <a:avLst/>
          </a:prstGeom>
          <a:ln w="9360">
            <a:solidFill>
              <a:srgbClr val="fffd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609480"/>
            <a:ext cx="2057400" cy="1983960"/>
            <a:chOff x="1676520" y="609480"/>
            <a:chExt cx="2057400" cy="1983960"/>
          </a:xfrm>
        </p:grpSpPr>
        <p:sp>
          <p:nvSpPr>
            <p:cNvPr id="90" name=""/>
            <p:cNvSpPr/>
            <p:nvPr/>
          </p:nvSpPr>
          <p:spPr>
            <a:xfrm>
              <a:off x="1676520" y="6094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6  2  9  8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1143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4  4  8  5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1600200"/>
              <a:ext cx="76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  0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7652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df9"/>
                  </a:solidFill>
                  <a:latin typeface="Comic Sans MS"/>
                </a:rPr>
                <a:t>3  8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19920" y="609480"/>
            <a:ext cx="457200" cy="1983960"/>
            <a:chOff x="6019920" y="609480"/>
            <a:chExt cx="457200" cy="1983960"/>
          </a:xfrm>
        </p:grpSpPr>
        <p:grpSp>
          <p:nvGrpSpPr>
            <p:cNvPr id="95" name=""/>
            <p:cNvGrpSpPr/>
            <p:nvPr/>
          </p:nvGrpSpPr>
          <p:grpSpPr>
            <a:xfrm>
              <a:off x="6019920" y="609480"/>
              <a:ext cx="457200" cy="1983960"/>
              <a:chOff x="6019920" y="609480"/>
              <a:chExt cx="457200" cy="1983960"/>
            </a:xfrm>
          </p:grpSpPr>
          <p:sp>
            <p:nvSpPr>
              <p:cNvPr id="96" name=""/>
              <p:cNvSpPr/>
              <p:nvPr/>
            </p:nvSpPr>
            <p:spPr>
              <a:xfrm>
                <a:off x="6019920" y="609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019920" y="1143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19920" y="16002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19920" y="213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df9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df9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477120" y="609480"/>
              <a:ext cx="0" cy="198144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83808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609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2  6  8  9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137160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143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4  4  5  8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1828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6002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0  3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36232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1337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df9"/>
                </a:solidFill>
                <a:latin typeface="Comic Sans MS"/>
              </a:rPr>
              <a:t>3  8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8440" y="3276720"/>
            <a:ext cx="2479320" cy="459720"/>
            <a:chOff x="568440" y="3276720"/>
            <a:chExt cx="2479320" cy="459720"/>
          </a:xfrm>
        </p:grpSpPr>
        <p:sp>
          <p:nvSpPr>
            <p:cNvPr id="110" name=""/>
            <p:cNvSpPr/>
            <p:nvPr/>
          </p:nvSpPr>
          <p:spPr>
            <a:xfrm>
              <a:off x="56844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49320" y="3276720"/>
              <a:ext cx="0" cy="380880"/>
            </a:xfrm>
            <a:prstGeom prst="line">
              <a:avLst/>
            </a:prstGeom>
            <a:ln w="9360">
              <a:solidFill>
                <a:srgbClr val="fffd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49320" y="3276720"/>
              <a:ext cx="3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5520" y="3276720"/>
              <a:ext cx="18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8179c"/>
                  </a:solidFill>
                  <a:latin typeface="Comic Sans MS"/>
                </a:rPr>
                <a:t>= 24</a:t>
              </a:r>
              <a:endParaRPr b="0" lang="en-US" sz="2400" spc="-1" strike="noStrike">
                <a:solidFill>
                  <a:srgbClr val="fffdf9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3520" y="38098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8179c"/>
                </a:solidFill>
                <a:latin typeface="Comic Sans MS"/>
              </a:rPr>
              <a:t>Denotes the meaning of the numbers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55ab"/>
                </a:solidFill>
                <a:latin typeface="Comic Sans MS"/>
              </a:rPr>
              <a:t>Total number of numbers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55ab"/>
                </a:solidFill>
                <a:latin typeface="Comic Sans MS"/>
              </a:rPr>
              <a:t>n = 12</a:t>
            </a:r>
            <a:endParaRPr b="0" lang="en-US" sz="2400" spc="-1" strike="noStrike">
              <a:solidFill>
                <a:srgbClr val="fffdf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eredith Adam</cp:lastModifiedBy>
  <dcterms:modified xsi:type="dcterms:W3CDTF">2007-07-03T11:27:23Z</dcterms:modified>
  <cp:revision>5</cp:revision>
  <dc:subject/>
  <dc:title>PowerPoint Presentation</dc:title>
</cp:coreProperties>
</file>